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EC54-9E26-4B03-926B-47D372959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DED7-3F74-4B6E-9BD1-251070E4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AE0B-4CDE-4D49-8F10-EDF3C505A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B131-CFBC-4143-8F37-C9D5BCB8A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3315-74F2-4D59-9887-65AEEDD82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610A-CC71-493B-BFFB-8F5100B4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D95C-2161-4F39-8ACE-827113C5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C60C-9297-4B84-95CA-F7EB62D3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2E76D-AB34-41C5-AC9F-A72721BF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5355-D046-43A4-837E-B8189174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65C1-E447-4BF7-AB40-09902105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5F06-E8C5-427C-A345-368586D1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D446-4489-4BD0-92C2-C20AC3BC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AEB6-4FE4-4167-B419-03932064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723B-6222-47B6-AEC1-6C3B0609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6F143-B124-4ADE-8B46-79025182C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D55F-6EC6-4570-BA73-601DC3066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2DC5-3CDF-4FE8-9115-CB01A4C0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4A5E-4B7E-47A8-AA1C-B2E66F04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F4BC-F0FC-4BF5-AC2E-426237EC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D1DE-19A6-4164-88F5-23C7F76D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EDE7-2A01-4834-8823-D50F78AC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A6F7-AC61-40D8-99CE-4B95B0B0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4653-548C-40E0-ADE0-5856AC03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3BB8-8BEC-4BC4-A710-A221146B6FA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DC08-FC7A-4C07-8953-842986FCA05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20 ГОД И ПЛАНОВЫЙ ПЕРИОД 2021-2022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11-27T00:30:08Z</dcterms:modified>
  <cp:revision>44</cp:revision>
  <dc:subject/>
  <dc:title>Структура собственных доходов на 2016 год бюджета Дальнереченского городского округа</dc:title>
</cp:coreProperties>
</file>